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F12-5E00-4331-8D72-A73754C0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A2C-0C73-4956-B8F9-17E5B34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DBE-A3C0-4E69-A6FA-50E6A6BE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615-1C1E-4820-A51E-3F98F0E4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3E-FE87-42BD-A2FB-F9D86D19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2EC-B2BF-45CB-8C4F-6DCAA60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A65-D416-462C-804A-D140D2E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202-A0F5-4B00-AF16-7224AE7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B1E-2DCC-4F5C-BF63-C60990D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236-E774-4B26-B47B-1F12127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48D-76A4-42C1-BB0B-D1BE6D7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EB1-0614-4AD2-BAC9-0CE848D0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79D-C240-4E8A-8BC7-43C5B4BD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non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73440" y="2957400"/>
            <a:ext cx="1795320" cy="18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178776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18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1841400" cy="120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1413000"/>
            <a:ext cx="229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per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193536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357336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1733400" cy="192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411280" y="2708280"/>
            <a:ext cx="2424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9:44Z</dcterms:created>
  <dc:creator>Marie-Pier</dc:creator>
  <dc:description/>
  <dc:language>en-US</dc:language>
  <cp:lastModifiedBy>Marie-Pier</cp:lastModifiedBy>
  <dcterms:modified xsi:type="dcterms:W3CDTF">2007-11-18T19:37:26Z</dcterms:modified>
  <cp:revision>2</cp:revision>
  <dc:subject/>
  <dc:title>Diapositive 1</dc:title>
</cp:coreProperties>
</file>